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523-FA46-4192-AF8A-0189B29E2C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6844-2C2F-454B-AD41-3D66B20BE0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5FC-E28F-4CD9-A720-2FFCD637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476-3218-411E-A455-AA53AAC0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72B-AD70-4B54-9B00-042EDBA0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C7E-4EC3-452F-B657-42B90BA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F0FF-63A7-4145-A291-C3415FCD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FBD-8C63-4569-BAB9-A95E638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24E-6FFC-47DC-93E0-DCFE188E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9C9C-7BC2-4A31-9DCB-A9D8779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47D-6B2A-42E1-AB48-59A0216E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F37A-FA64-4466-B56A-B760A61D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D6B4-843A-4E1A-A7AB-43F3894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060-D0E1-475E-81D8-CEFD9FAB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AE2-DA76-4595-951C-19310AC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C0D-C97A-44DC-A80A-185C586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335D-48F9-4334-AC47-F75BF614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19B0-450C-42DA-B745-EC2A03E8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6F1E-2D76-4486-875A-021C620A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392-A7F3-4CF4-AB61-5409479A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ACC-FD82-4412-BC17-362EB38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55E-ADF9-4617-9DB8-2D9998C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66D-77C6-47B9-B357-C4FBD72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973-B05D-4362-9A95-7A1FE51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168-ECB1-45DD-961F-E60FBF1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3E6-CD99-4C0C-AC2E-BA0810B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C30-6E45-4560-9889-975F1D1356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B55-0CE8-40A1-9FDE-F3B759B207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324000" y="692280"/>
            <a:ext cx="835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ahoma"/>
              </a:rPr>
              <a:t>Социальный проект</a:t>
            </a:r>
            <a:br>
              <a:rPr sz="6000"/>
            </a:br>
            <a:r>
              <a:rPr b="1" lang="ru-RU" sz="6000" spc="-1" strike="noStrike">
                <a:solidFill>
                  <a:srgbClr val="ff9900"/>
                </a:solidFill>
                <a:latin typeface="Tahoma"/>
              </a:rPr>
              <a:t>к 65-летию Побед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Н.А. Евтее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2010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Опрос  библиотекаря, завуча по ВР, учителей начальных клас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64328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995640" y="2492280"/>
            <a:ext cx="4494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Общешкольных де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посвящённых детям-героям войны - не бы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Книги о детях-героях в школьной библиотеке 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Интересуются ими дети не ча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79280" y="981000"/>
            <a:ext cx="8785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9900"/>
                </a:solidFill>
                <a:uFillTx/>
                <a:latin typeface="Tahoma"/>
              </a:rPr>
              <a:t>Цель:</a:t>
            </a:r>
            <a:r>
              <a:rPr b="1" i="1" lang="ru-RU" sz="2400" spc="-1" strike="noStrike">
                <a:solidFill>
                  <a:srgbClr val="009900"/>
                </a:solidFill>
                <a:latin typeface="Tahoma"/>
              </a:rPr>
              <a:t>  узнать о состоянии работы  в начальной школе об информированности учащихся о детях-героях Великой Отечеств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067280" cy="305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95280" y="4221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На классных часах, уроках внеклассного чт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о детях-героях Великой Отечественной войны учащимся рассказывало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Учеников это заинтересова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ahoma"/>
              </a:rPr>
              <a:t>В ходе изучения общественного мнения выявленная нами проблема существует и для её решения мы составили программу действ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Программа действий</a:t>
            </a:r>
            <a:br>
              <a:rPr sz="4400"/>
            </a:br>
            <a:r>
              <a:rPr b="1" i="1" lang="ru-RU" sz="3600" spc="-1" strike="noStrike">
                <a:solidFill>
                  <a:srgbClr val="ffcc66"/>
                </a:solidFill>
                <a:latin typeface="Tahoma"/>
              </a:rPr>
              <a:t>1. Приготовить информацию о детях – героях Великой Отечественной войны с презентацией</a:t>
            </a:r>
            <a:br>
              <a:rPr sz="3600"/>
            </a:br>
            <a:r>
              <a:rPr b="1" i="1" lang="ru-RU" sz="3600" spc="-1" strike="noStrike">
                <a:solidFill>
                  <a:srgbClr val="ffcc66"/>
                </a:solidFill>
                <a:latin typeface="Tahoma"/>
              </a:rPr>
              <a:t>(в группах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535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2. Провести конкурс в классе на луч</a:t>
            </a: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ший материал о герое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«Наши герои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3. Выступить на классных часах в начальном звене школы №5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4. Провести повторный опрос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учащихся начальной школы №5,  школьного библиотекар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Реализация программы</a:t>
            </a:r>
            <a:br>
              <a:rPr sz="44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Конкурс исследовательских работ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в классе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«Наш</a:t>
            </a: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герой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 rot="21308400">
            <a:off x="394920" y="2997000"/>
            <a:ext cx="4032360" cy="300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C030193"/>
          <p:cNvPicPr/>
          <p:nvPr/>
        </p:nvPicPr>
        <p:blipFill>
          <a:blip r:embed="rId2"/>
          <a:stretch/>
        </p:blipFill>
        <p:spPr>
          <a:xfrm rot="345600">
            <a:off x="4932000" y="3068280"/>
            <a:ext cx="3890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Проведение классных часов «Дети-герои Великой Отечественной войны» в начальных</a:t>
            </a: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классах школы №5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 rot="21436800">
            <a:off x="323640" y="2852640"/>
            <a:ext cx="3960720" cy="285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 rot="200400">
            <a:off x="4858920" y="2852280"/>
            <a:ext cx="39607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Результаты повторного опроса учащихс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111480" y="214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45080" cy="262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12"/>
          <p:cNvGraphicFramePr/>
          <p:nvPr/>
        </p:nvGraphicFramePr>
        <p:xfrm>
          <a:off x="3835440" y="2440080"/>
          <a:ext cx="5308560" cy="441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35440" y="2440080"/>
                    <a:ext cx="530856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4"/>
          <p:cNvSpPr/>
          <p:nvPr/>
        </p:nvSpPr>
        <p:spPr>
          <a:xfrm>
            <a:off x="4284720" y="2060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Опрошено 73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Повторный опрос библиотекар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rcRect l="0" t="-3566" r="0" b="0"/>
          <a:stretch/>
        </p:blipFill>
        <p:spPr>
          <a:xfrm>
            <a:off x="5292720" y="1773360"/>
            <a:ext cx="3591000" cy="417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324000" y="1628640"/>
            <a:ext cx="467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За последние месяцы повысился интере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обучающихся начальной школы к литер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патриотического направления, в частнос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о детях-героях Великой Отечественно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За 2 последних месяца выдано школь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библиотекой  - 98 кни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Наш проект реализован.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Никто не забыт, ничто не забыт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792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396360" cy="3632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5400" spc="-1" strike="noStrike">
                <a:solidFill>
                  <a:srgbClr val="ff9900"/>
                </a:solidFill>
                <a:latin typeface="Tahoma"/>
              </a:rPr>
              <a:t>Тема: </a:t>
            </a:r>
            <a:br>
              <a:rPr sz="54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«Не будут, не будут, не будут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             забыты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Ребята – герои родимой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          страны.»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3960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уемая литератур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2286000" y="199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857160"/>
            <a:ext cx="87156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В. Коробкову -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videomax.ru/forum/uploads/20060816_110835_065-P1250005-We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ка с книги «Пионеры-герои» 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gornitsa.ru/images/products/book2/al_book_61360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«Пионер, прячущий знамя» 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informatics.ru/mshp/works/heroies_gpw/pic/krav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амятник пионерам-героя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0" y="335772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0629.glam.in.ua/uploads/posts/2010-05/thumbs/1273253491_balabuxa-3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Фото В.Дубинина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428760" y="4286160"/>
            <a:ext cx="610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nabchelny.ru/users/asyltash/mart_2010/dubinin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Вечный огонь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57120" y="4929120"/>
            <a:ext cx="8286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Tahoma"/>
              </a:rPr>
              <a:t>http://www.orehttp://images.yandex.ru/yandsearch?rpt=simage&amp;img_url=s59.radikal.ru%2Fi164%2F0809%2F17%2Fd4b1aa93eeef.jpg&amp;ed=1&amp;text=%D0%A2%D0%B0%D0%BD%D1%8F%20%D0%A1%D0%B0%D0%B2%D0%B8%D1%87%D0%B5%D0%B2%D0%B0%20%D0%B2%20%D0%BA%D0%B0%D1%80%D1%82%D0%B8%D0%BD%D0%BA%D0%B0%D1%85&amp;p=1ninform.ru/upload/iblock/f57/vo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50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c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преодолеть проблему незнания обучающимися начальной </a:t>
            </a:r>
            <a:br>
              <a:rPr sz="36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школы фактов участия их</a:t>
            </a:r>
            <a:br>
              <a:rPr sz="36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 сверстников в Великой </a:t>
            </a:r>
            <a:br>
              <a:rPr sz="36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Отечественной войне и </a:t>
            </a:r>
            <a:br>
              <a:rPr sz="36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их подвигах на фронте </a:t>
            </a:r>
            <a:br>
              <a:rPr sz="36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643720" y="1928880"/>
            <a:ext cx="3336840" cy="4319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132560" y="-42840"/>
            <a:ext cx="195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</a:rPr>
              <a:t>Цель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Определение проблемы</a:t>
            </a:r>
            <a:br>
              <a:rPr sz="2800"/>
            </a:br>
            <a:r>
              <a:rPr b="0" i="1" lang="ru-RU" sz="4400" spc="-1" strike="noStrike">
                <a:solidFill>
                  <a:srgbClr val="009900"/>
                </a:solidFill>
                <a:latin typeface="Tahoma"/>
              </a:rPr>
              <a:t>Классный час «Дети и война»</a:t>
            </a:r>
            <a:br>
              <a:rPr sz="4400"/>
            </a:b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В ходе обсуждения выявлена проблема: ребята нашего 4-а класса не знают детей-героев Великой Отечественной и их подвиг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 rot="21115800">
            <a:off x="380880" y="379692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 rot="709800">
            <a:off x="5219640" y="386064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Tahoma"/>
              </a:rPr>
              <a:t>Планирование деятель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0" y="981000"/>
            <a:ext cx="8621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ctr">
              <a:lnSpc>
                <a:spcPct val="100000"/>
              </a:lnSpc>
              <a:buClr>
                <a:srgbClr val="0099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бор информ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9900"/>
                </a:solidFill>
                <a:uFillTx/>
                <a:latin typeface="Tahoma"/>
              </a:rPr>
              <a:t>Цель: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 получить сведения о детях-героях войны и их подвигах  через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79280" y="2708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а) чтение книг, статей в журналах, газе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б)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оиск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в сети Интерне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в) встречи с ветеранами Калининского фрон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642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Результат:</a:t>
            </a:r>
            <a:br>
              <a:rPr sz="4400"/>
            </a:b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узнали детей-героев Великой Отечественной войны, собрали много информации о их жизни и подвигах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5" descr="Картинка 55 из 681"/>
          <p:cNvPicPr/>
          <p:nvPr/>
        </p:nvPicPr>
        <p:blipFill>
          <a:blip r:embed="rId1"/>
          <a:stretch/>
        </p:blipFill>
        <p:spPr>
          <a:xfrm>
            <a:off x="539640" y="2276640"/>
            <a:ext cx="3289320" cy="4384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Картинка 270 из 695"/>
          <p:cNvPicPr/>
          <p:nvPr/>
        </p:nvPicPr>
        <p:blipFill>
          <a:blip r:embed="rId2"/>
          <a:stretch/>
        </p:blipFill>
        <p:spPr>
          <a:xfrm>
            <a:off x="4859280" y="2349360"/>
            <a:ext cx="3625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716360" y="2637000"/>
            <a:ext cx="424836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Опроше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71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Знают детей-героев войны – 17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Знают подвиги дет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– 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7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009900"/>
                </a:solidFill>
                <a:latin typeface="Tahoma"/>
              </a:rPr>
              <a:t>2. Изучение общественного мнения</a:t>
            </a:r>
            <a:br>
              <a:rPr sz="3600"/>
            </a:b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79280" y="1125360"/>
            <a:ext cx="8785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9900"/>
                </a:solidFill>
                <a:uFillTx/>
                <a:latin typeface="Tahoma"/>
              </a:rPr>
              <a:t>Цель:</a:t>
            </a:r>
            <a:r>
              <a:rPr b="1" i="1" lang="ru-RU" sz="2400" spc="-1" strike="noStrike">
                <a:solidFill>
                  <a:srgbClr val="009900"/>
                </a:solidFill>
                <a:latin typeface="Tahoma"/>
              </a:rPr>
              <a:t> выяснить, является ли наша проблема актуальной не только для нашего класса, но и для учеников начального звена школы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50920" y="256536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Опрос учащихс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6:58:01Z</dcterms:created>
  <dc:creator>SamLab.ws</dc:creator>
  <dc:description/>
  <dc:language>en-US</dc:language>
  <cp:lastModifiedBy>Admin</cp:lastModifiedBy>
  <dcterms:modified xsi:type="dcterms:W3CDTF">2012-11-08T18:55:09Z</dcterms:modified>
  <cp:revision>35</cp:revision>
  <dc:subject/>
  <dc:title>Социальный проект к 65-летию Победы.     Выполнили учащиеся 4А кла</dc:title>
</cp:coreProperties>
</file>