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205-288A-4C40-8929-3FCAA8E0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FCD-A3B9-4F6A-BA7D-1659B44A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93B-54EE-4E03-B861-F1525253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229-A8BD-4046-9C87-2DE13946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53C-2E8D-4B6B-84E7-F82F0880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3D61-93EF-486E-ACE8-7B90751E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4AC0-F2EC-4717-9A02-10F78C8F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5880-5ED1-4FA0-BD3B-DFE83395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18C3-2F2C-41B5-9877-90F5CBD9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AB1C-FA56-4356-A0AC-1C48D247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090-051A-4502-A7C4-1E83FC7E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3A0-2EF9-478A-9A37-B8C58538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9F2D-A79F-4020-A01B-80ED3FC7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94E3-96C9-4DD7-858D-757AEB4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06CF-7CA0-450E-AD29-40CDD3B3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390A-82C1-430C-8F22-DBA65443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3DE9-422B-4D3A-9CA6-774B541F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E9B-AD4C-4753-9DAA-907625DA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87B-6C1C-4CCF-986E-0B71FBFA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D52-B639-40B4-93D7-CC37C18B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8A6-0B0A-4BE7-A053-546C6614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3BD-68AC-4E92-AA09-AF2C3E42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4DF-6ED6-400D-9BF7-B1BC59D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222-86D3-4287-91EE-23136509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0900-AB99-4561-983F-6BB0451707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EFA7-D1C4-4C02-B48C-E676D60413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_&#1051;&#1077;&#1085;&#1080;&#1085;&#1072;" TargetMode="External"/><Relationship Id="rId2" Type="http://schemas.openxmlformats.org/officeDocument/2006/relationships/hyperlink" Target="http://ru.wikipedia.org/w/index.php?title=&#1058;&#1086;&#1083;&#1103;_&#1064;&#1091;&#1084;&#1086;&#1074;&amp;action=edit&amp;redlink=1" TargetMode="External"/><Relationship Id="rId3" Type="http://schemas.openxmlformats.org/officeDocument/2006/relationships/hyperlink" Target="http://ru.wikipedia.org/wiki/&#1042;&#1080;&#1090;&#1103;_&#1050;&#1086;&#1088;&#1086;&#1073;&#1082;&#1086;&#1074;" TargetMode="External"/><Relationship Id="rId4" Type="http://schemas.openxmlformats.org/officeDocument/2006/relationships/hyperlink" Target="http://ru.wikipedia.org/w/index.php?title=&#1042;&#1086;&#1083;&#1086;&#1076;&#1103;_&#1050;&#1072;&#1079;&#1085;&#1072;&#1095;&#1077;&#1077;&#1074;&amp;action=edit&amp;redlink=1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_&#1050;&#1088;&#1072;&#1089;&#1085;&#1086;&#1075;&#1086;_&#1047;&#1085;&#1072;&#1084;&#1077;&#1085;&#1080;" TargetMode="External"/><Relationship Id="rId2" Type="http://schemas.openxmlformats.org/officeDocument/2006/relationships/hyperlink" Target="http://ru.wikipedia.org/wiki/&#1042;&#1086;&#1083;&#1086;&#1076;&#1103;_&#1044;&#1091;&#1073;&#1080;&#1085;&#1080;&#1085;" TargetMode="External"/><Relationship Id="rId3" Type="http://schemas.openxmlformats.org/officeDocument/2006/relationships/hyperlink" Target="http://ru.wikipedia.org/w/index.php?title=&#1050;&#1086;&#1089;&#1090;&#1103;_&#1050;&#1088;&#1072;&#1074;&#1095;&#1091;&#1082;&amp;action=edit&amp;redlink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_&#1054;&#1090;&#1077;&#1095;&#1077;&#1089;&#1090;&#1074;&#1077;&#1085;&#1085;&#1086;&#1081;_&#1074;&#1086;&#1081;&#1085;&#1099;" TargetMode="External"/><Relationship Id="rId2" Type="http://schemas.openxmlformats.org/officeDocument/2006/relationships/hyperlink" Target="http://ru.wikipedia.org/w/index.php?title=&#1042;&#1072;&#1083;&#1077;&#1088;&#1080;&#1081;_&#1042;&#1086;&#1083;&#1082;&#1086;&#1074;&amp;action=edit&amp;redlink=1" TargetMode="External"/><Relationship Id="rId3" Type="http://schemas.openxmlformats.org/officeDocument/2006/relationships/hyperlink" Target="http://ru.wikipedia.org/w/index.php?title=&#1057;&#1072;&#1096;&#1072;_&#1050;&#1086;&#1074;&#1072;&#1083;&#1105;&#1074;&amp;action=edit&amp;redlink=1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_&#1050;&#1088;&#1072;&#1089;&#1085;&#1086;&#1081;_&#1047;&#1074;&#1077;&#1079;&#1076;&#1099;" TargetMode="External"/><Relationship Id="rId2" Type="http://schemas.openxmlformats.org/officeDocument/2006/relationships/hyperlink" Target="http://ru.wikipedia.org/w/index.php?title=&#1042;&#1086;&#1083;&#1086;&#1076;&#1103;_&#1057;&#1072;&#1084;&#1086;&#1088;&#1091;&#1093;&#1072;&amp;action=edit&amp;redlink=1" TargetMode="External"/><Relationship Id="rId3" Type="http://schemas.openxmlformats.org/officeDocument/2006/relationships/hyperlink" Target="http://ru.wikipedia.org/w/index.php?title=&#1064;&#1091;&#1088;&#1072;_&#1045;&#1092;&#1088;&#1077;&#1084;&#1086;&#1074;&amp;action=edit&amp;redlink=1" TargetMode="External"/><Relationship Id="rId4" Type="http://schemas.openxmlformats.org/officeDocument/2006/relationships/hyperlink" Target="http://ru.wikipedia.org/w/index.php?title=&#1042;&#1072;&#1085;&#1103;_&#1040;&#1085;&#1076;&#1088;&#1080;&#1072;&#1085;&#1086;&#1074;&amp;action=edit&amp;redlink=1" TargetMode="External"/><Relationship Id="rId5" Type="http://schemas.openxmlformats.org/officeDocument/2006/relationships/hyperlink" Target="http://ru.wikipedia.org/w/index.php?title=&#1042;&#1080;&#1090;&#1103;_&#1050;&#1086;&#1074;&#1072;&#1083;&#1077;&#1085;&#1082;&#1086;&amp;action=edit&amp;redlink=1" TargetMode="External"/><Relationship Id="rId6" Type="http://schemas.openxmlformats.org/officeDocument/2006/relationships/hyperlink" Target="http://ru.wikipedia.org/w/index.php?title=&#1051;&#1105;&#1085;&#1103;_&#1040;&#1085;&#1082;&#1080;&#1085;&#1086;&#1074;&#1080;&#1095;&amp;action=edit&amp;redlink=1" TargetMode="Externa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2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3" Type="http://schemas.openxmlformats.org/officeDocument/2006/relationships/hyperlink" Target="http://ru.wikipedia.org/wiki/&#1051;&#1105;&#1085;&#1103;_&#1043;&#1086;&#1083;&#1080;&#1082;&#1086;&#1074;" TargetMode="External"/><Relationship Id="rId4" Type="http://schemas.openxmlformats.org/officeDocument/2006/relationships/hyperlink" Target="http://ru.wikipedia.org/wiki/&#1052;&#1072;&#1088;&#1072;&#1090;_&#1050;&#1072;&#1079;&#1077;&#1081;" TargetMode="External"/><Relationship Id="rId5" Type="http://schemas.openxmlformats.org/officeDocument/2006/relationships/hyperlink" Target="http://ru.wikipedia.org/wiki/&#1042;&#1072;&#1083;&#1103;_&#1050;&#1086;&#1090;&#1080;&#1082;" TargetMode="External"/><Relationship Id="rId6" Type="http://schemas.openxmlformats.org/officeDocument/2006/relationships/hyperlink" Target="http://ru.wikipedia.org/wiki/&#1047;&#1080;&#1085;&#1072;_&#1055;&#1086;&#1088;&#1090;&#1085;&#1086;&#1074;&#1072;" TargetMode="Externa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5_&#1103;&#1085;&#1074;&#1072;&#1088;&#1103;" TargetMode="External"/><Relationship Id="rId2" Type="http://schemas.openxmlformats.org/officeDocument/2006/relationships/hyperlink" Target="http://ru.wikipedia.org/wiki/1930_&#1075;&#1086;&#1076;" TargetMode="External"/><Relationship Id="rId3" Type="http://schemas.openxmlformats.org/officeDocument/2006/relationships/hyperlink" Target="http://ru.wikipedia.org/wiki/&#1051;&#1077;&#1085;&#1080;&#1085;&#1075;&#1088;&#1072;&#1076;" TargetMode="External"/><Relationship Id="rId4" Type="http://schemas.openxmlformats.org/officeDocument/2006/relationships/hyperlink" Target="http://ru.wikipedia.org/wiki/&#1057;&#1072;&#1085;&#1082;&#1090;-&#1055;&#1077;&#1090;&#1077;&#1088;&#1073;&#1091;&#1088;&#1075;" TargetMode="External"/><Relationship Id="rId5" Type="http://schemas.openxmlformats.org/officeDocument/2006/relationships/hyperlink" Target="http://ru.wikipedia.org/wiki/1942_&#1075;&#1086;&#1076;" TargetMode="External"/><Relationship Id="rId6" Type="http://schemas.openxmlformats.org/officeDocument/2006/relationships/hyperlink" Target="http://ru.wikipedia.org/wiki/&#1064;&#1072;&#1090;&#1082;&#1086;&#1074;&#1089;&#1082;&#1080;&#1081;_&#1088;&#1072;&#1081;&#1086;&#1085;_&#1053;&#1080;&#1078;&#1077;&#1075;&#1086;&#1088;&#1086;&#1076;&#1089;&#1082;&#1086;&#1081;_&#1086;&#1073;&#1083;&#1072;&#1089;&#1090;&#1080;" TargetMode="External"/><Relationship Id="rId7" Type="http://schemas.openxmlformats.org/officeDocument/2006/relationships/hyperlink" Target="http://ru.wikipedia.org/wiki/1_&#1080;&#1102;&#1083;&#1103;" TargetMode="External"/><Relationship Id="rId8" Type="http://schemas.openxmlformats.org/officeDocument/2006/relationships/hyperlink" Target="http://ru.wikipedia.org/wiki/1944" TargetMode="External"/><Relationship Id="rId9" Type="http://schemas.openxmlformats.org/officeDocument/2006/relationships/hyperlink" Target="http://ru.wikipedia.org/wiki/&#1058;&#1091;&#1073;&#1077;&#1088;&#1082;&#1091;&#1083;&#1105;&#1079;" TargetMode="External"/><Relationship Id="rId10" Type="http://schemas.openxmlformats.org/officeDocument/2006/relationships/hyperlink" Target="http://ru.wikipedia.org/wiki/&#1050;&#1080;&#1096;&#1077;&#1095;&#1085;&#1080;&#1082;" TargetMode="External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nformatics.ru/mshp/works/heroies_gpw/pic/krav.jpg" TargetMode="External"/><Relationship Id="rId2" Type="http://schemas.openxmlformats.org/officeDocument/2006/relationships/hyperlink" Target="http://www.gallart.ru/images/expozition/image_3579.jpg" TargetMode="External"/><Relationship Id="rId3" Type="http://schemas.openxmlformats.org/officeDocument/2006/relationships/hyperlink" Target="http://yahooeu.ru/uploads/posts/09/06/02/27/yahooeu_ru_8.jpg" TargetMode="External"/><Relationship Id="rId4" Type="http://schemas.openxmlformats.org/officeDocument/2006/relationships/hyperlink" Target="http://dic.academic.ru/pictures/wiki/files/86/ValaKotyk.jpg" TargetMode="External"/><Relationship Id="rId5" Type="http://schemas.openxmlformats.org/officeDocument/2006/relationships/hyperlink" Target="http://kp.by/f/4/image/33/18/111833.jpg" TargetMode="External"/><Relationship Id="rId6" Type="http://schemas.openxmlformats.org/officeDocument/2006/relationships/hyperlink" Target="http://img0.liveinternet.ru/images/attach/c/2/64/166/64166152_1284806405_6032_msgmid.jpg" TargetMode="External"/><Relationship Id="rId7" Type="http://schemas.openxmlformats.org/officeDocument/2006/relationships/hyperlink" Target="http://www.krymology.info/images/2/23/&#1042;&#1080;&#1090;&#1103;_&#1050;&#1086;&#1088;&#1086;&#1073;&#1082;&#1086;&#1074;_&#1089;&#1090;&#1077;&#1085;&#1076;.jpg" TargetMode="External"/><Relationship Id="rId8" Type="http://schemas.openxmlformats.org/officeDocument/2006/relationships/hyperlink" Target="http://biograf-book.narod.ru/personalii/15/portreti/portnova.jpg" TargetMode="External"/><Relationship Id="rId9" Type="http://schemas.openxmlformats.org/officeDocument/2006/relationships/hyperlink" Target="http://upload.wikimedia.org/wikipedia/commons/thumb/a/ac/Order_of_Lenin.jpg/230px-Order_of_Lenin.jpg" TargetMode="External"/><Relationship Id="rId10" Type="http://schemas.openxmlformats.org/officeDocument/2006/relationships/hyperlink" Target="http://young.rzd.ru/dbmm/images/41/4080/2233837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74;&#1077;&#1090;&#1089;&#1082;&#1080;&#1077;_&#1087;&#1072;&#1088;&#1090;&#1080;&#1079;&#1072;&#1085;&#1099;_&#1074;_&#1042;&#1077;&#1083;&#1080;&#1082;&#1086;&#1081;_&#1054;&#1090;&#1077;&#1095;&#1077;&#1089;&#1090;&#1074;&#1077;&#1085;&#1085;&#1086;&#1081;_&#1074;&#1086;&#1081;&#1085;&#1077;" TargetMode="External"/><Relationship Id="rId2" Type="http://schemas.openxmlformats.org/officeDocument/2006/relationships/hyperlink" Target="http://ru.wikipedia.org/wiki/&#1054;&#1088;&#1076;&#1077;&#1085;_&#1050;&#1088;&#1072;&#1089;&#1085;&#1086;&#1075;&#1086;_&#1047;&#1085;&#1072;&#1084;&#1077;&#1085;&#1080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2" Type="http://schemas.openxmlformats.org/officeDocument/2006/relationships/hyperlink" Target="http://ru.wikipedia.org/wiki/&#1059;&#1082;&#1088;&#1072;&#1080;&#1085;&#1072;" TargetMode="External"/><Relationship Id="rId3" Type="http://schemas.openxmlformats.org/officeDocument/2006/relationships/hyperlink" Target="http://ru.wikipedia.org/wiki/&#1048;&#1079;&#1103;&#1089;&#1083;&#1072;&#1074;_(&#1075;&#1086;&#1088;&#1086;&#1076;)" TargetMode="External"/><Relationship Id="rId4" Type="http://schemas.openxmlformats.org/officeDocument/2006/relationships/hyperlink" Target="http://ru.wikipedia.org/wiki/&#1061;&#1084;&#1077;&#1083;&#1100;&#1085;&#1080;&#1094;&#1082;&#1072;&#1103;_&#1086;&#1073;&#1083;&#1072;&#1089;&#1090;&#1100;" TargetMode="External"/><Relationship Id="rId5" Type="http://schemas.openxmlformats.org/officeDocument/2006/relationships/hyperlink" Target="http://ru.wikipedia.org/wiki/&#1054;&#1088;&#1076;&#1077;&#1085;_&#1054;&#1090;&#1077;&#1095;&#1077;&#1089;&#1090;&#1074;&#1077;&#1085;&#1085;&#1086;&#1081;_&#1074;&#1086;&#1081;&#1085;&#1099;" TargetMode="External"/><Relationship Id="rId6" Type="http://schemas.openxmlformats.org/officeDocument/2006/relationships/hyperlink" Target="http://ru.wikipedia.org/wiki/1958_&#1075;&#1086;&#1076;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2;&#1086;&#1089;&#1089;&#1086;&#1074;&#1089;&#1082;&#1080;&#1081;" TargetMode="External"/><Relationship Id="rId2" Type="http://schemas.openxmlformats.org/officeDocument/2006/relationships/hyperlink" Target="http://ru.wikipedia.org/wiki/&#1056;&#1077;&#1081;&#1076;" TargetMode="External"/><Relationship Id="rId3" Type="http://schemas.openxmlformats.org/officeDocument/2006/relationships/hyperlink" Target="http://ru.wikipedia.org/wiki/&#1044;&#1080;&#1074;&#1077;&#1088;&#1089;&#1080;&#1103;" TargetMode="External"/><Relationship Id="rId4" Type="http://schemas.openxmlformats.org/officeDocument/2006/relationships/hyperlink" Target="http://ru.wikipedia.org/wiki/&#1054;&#1088;&#1076;&#1077;&#1085;_&#1054;&#1090;&#1077;&#1095;&#1077;&#1089;&#1090;&#1074;&#1077;&#1085;&#1085;&#1086;&#1081;_&#1074;&#1086;&#1081;&#1085;&#1099;" TargetMode="External"/><Relationship Id="rId5" Type="http://schemas.openxmlformats.org/officeDocument/2006/relationships/hyperlink" Target="http://ru.wikipedia.org/wiki/&#1047;&#1072;_&#1086;&#1090;&#1074;&#1072;&#1075;&#1091;" TargetMode="External"/><Relationship Id="rId6" Type="http://schemas.openxmlformats.org/officeDocument/2006/relationships/hyperlink" Target="http://ru.wikipedia.org/wiki/&#1047;&#1072;_&#1073;&#1086;&#1077;&#1074;&#1099;&#1077;_&#1079;&#1072;&#1089;&#1083;&#1091;&#1075;&#1080;" TargetMode="External"/><Relationship Id="rId7" Type="http://schemas.openxmlformats.org/officeDocument/2006/relationships/hyperlink" Target="http://ru.wikipedia.org/wiki/&#1060;&#1072;&#1096;&#1080;&#1089;&#1090;" TargetMode="External"/><Relationship Id="rId8" Type="http://schemas.openxmlformats.org/officeDocument/2006/relationships/hyperlink" Target="http://ru.wikipedia.org/wiki/&#1043;&#1088;&#1072;&#1085;&#1072;&#1090;&#1072;" TargetMode="External"/><Relationship Id="rId9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10" Type="http://schemas.openxmlformats.org/officeDocument/2006/relationships/hyperlink" Target="http://ru.wikipedia.org/wiki/1965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3;&#1086;&#1082;&#1072;&#1076;&#1072;_&#1051;&#1077;&#1085;&#1080;&#1085;&#1075;&#1088;&#1072;&#1076;&#1072;" TargetMode="External"/><Relationship Id="rId2" Type="http://schemas.openxmlformats.org/officeDocument/2006/relationships/hyperlink" Target="http://ru.wikipedia.org/wiki/&#1051;&#1077;&#1085;&#1080;&#1085;&#1075;&#1088;&#1072;&#1076;" TargetMode="External"/><Relationship Id="rId3" Type="http://schemas.openxmlformats.org/officeDocument/2006/relationships/hyperlink" Target="http://ru.wikipedia.org/wiki/&#1054;&#1088;&#1076;&#1077;&#1085;_&#1051;&#1077;&#1085;&#1080;&#1085;&#1072;" TargetMode="External"/><Relationship Id="rId4" Type="http://schemas.openxmlformats.org/officeDocument/2006/relationships/hyperlink" Target="http://ru.wikipedia.org/wiki/&#1054;&#1088;&#1076;&#1077;&#1085;_&#1041;&#1086;&#1077;&#1074;&#1086;&#1075;&#1086;_&#1050;&#1088;&#1072;&#1089;&#1085;&#1086;&#1075;&#1086;_&#1047;&#1085;&#1072;&#1084;&#1077;&#1085;&#1080;" TargetMode="External"/><Relationship Id="rId5" Type="http://schemas.openxmlformats.org/officeDocument/2006/relationships/hyperlink" Target="http://ru.wikipedia.org/wiki/&#1052;&#1077;&#1076;&#1072;&#1083;&#1100;_&#171;&#1047;&#1072;_&#1086;&#1090;&#1074;&#1072;&#1075;&#1091;&#187;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44" TargetMode="External"/><Relationship Id="rId2" Type="http://schemas.openxmlformats.org/officeDocument/2006/relationships/hyperlink" Target="http://ru.wikipedia.org/wiki/&#1043;&#1077;&#1089;&#1090;&#1072;&#1087;&#1086;" TargetMode="External"/><Relationship Id="rId3" Type="http://schemas.openxmlformats.org/officeDocument/2006/relationships/hyperlink" Target="http://ru.wikipedia.org/wiki/&#1047;&#1072;_&#1086;&#1090;&#1074;&#1072;&#1075;&#1091;_(&#1084;&#1077;&#1076;&#1072;&#1083;&#1100;)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41_&#1075;&#1086;&#1076;" TargetMode="External"/><Relationship Id="rId2" Type="http://schemas.openxmlformats.org/officeDocument/2006/relationships/hyperlink" Target="http://ru.wikipedia.org/wiki/&#1050;&#1072;&#1085;&#1080;&#1082;&#1091;&#1083;&#1099;" TargetMode="External"/><Relationship Id="rId3" Type="http://schemas.openxmlformats.org/officeDocument/2006/relationships/hyperlink" Target="http://ru.wikipedia.org/w/index.php?title=&#1047;&#1091;&#1103;&amp;action=edit&amp;redlink=1" TargetMode="External"/><Relationship Id="rId4" Type="http://schemas.openxmlformats.org/officeDocument/2006/relationships/hyperlink" Target="http://ru.wikipedia.org/wiki/&#1042;&#1080;&#1090;&#1077;&#1073;&#1089;&#1082;&#1072;&#1103;_&#1086;&#1073;&#1083;&#1072;&#1089;&#1090;&#1100;" TargetMode="External"/><Relationship Id="rId5" Type="http://schemas.openxmlformats.org/officeDocument/2006/relationships/hyperlink" Target="http://ru.wikipedia.org/wiki/1942_&#1075;&#1086;&#1076;" TargetMode="External"/><Relationship Id="rId6" Type="http://schemas.openxmlformats.org/officeDocument/2006/relationships/hyperlink" Target="http://ru.wikipedia.org/wiki/&#1070;&#1085;&#1099;&#1077;_&#1084;&#1089;&#1090;&#1080;&#1090;&#1077;&#1083;&#1080;" TargetMode="External"/><Relationship Id="rId7" Type="http://schemas.openxmlformats.org/officeDocument/2006/relationships/hyperlink" Target="http://ru.wikipedia.org/wiki/1943_&#1075;&#1086;&#1076;" TargetMode="External"/><Relationship Id="rId8" Type="http://schemas.openxmlformats.org/officeDocument/2006/relationships/hyperlink" Target="http://ru.wikipedia.org/wiki/&#1056;&#1072;&#1079;&#1074;&#1077;&#1076;&#1095;&#1080;&#1082;" TargetMode="External"/><Relationship Id="rId9" Type="http://schemas.openxmlformats.org/officeDocument/2006/relationships/hyperlink" Target="http://ru.wikipedia.org/wiki/1943_&#1075;&#1086;&#1076;" TargetMode="External"/><Relationship Id="rId10" Type="http://schemas.openxmlformats.org/officeDocument/2006/relationships/hyperlink" Target="http://ru.wikipedia.org/w/index.php?title=&#1052;&#1086;&#1089;&#1090;&#1080;&#1097;&#1077;&amp;action=edit&amp;redlink=1" TargetMode="External"/><Relationship Id="rId11" Type="http://schemas.openxmlformats.org/officeDocument/2006/relationships/hyperlink" Target="http://ru.wikipedia.org/wiki/&#1043;&#1077;&#1089;&#1090;&#1072;&#1087;&#1086;" TargetMode="External"/><Relationship Id="rId12" Type="http://schemas.openxmlformats.org/officeDocument/2006/relationships/hyperlink" Target="http://ru.wikipedia.org/w/index.php?title=&#1043;&#1086;&#1088;&#1103;&#1085;&#1099;_(&#1041;&#1077;&#1083;&#1086;&#1088;&#1091;&#1089;&#1089;&#1080;&#1103;)&amp;action=edit&amp;redlink=1" TargetMode="External"/><Relationship Id="rId13" Type="http://schemas.openxmlformats.org/officeDocument/2006/relationships/hyperlink" Target="http://ru.wikipedia.org/wiki/&#1042;&#1080;&#1090;&#1077;&#1073;&#1089;&#1082;" TargetMode="External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" TargetMode="External"/><Relationship Id="rId2" Type="http://schemas.openxmlformats.org/officeDocument/2006/relationships/hyperlink" Target="http://ru.wikipedia.org/wiki/&#1052;&#1077;&#1076;&#1072;&#1083;&#1100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68360" y="54936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онеры геро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ой Отечественной вой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4163760" cy="4029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4643280" y="4357800"/>
            <a:ext cx="428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и обучающиеся  4 «А»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СОШ №5 города Каш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ер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онова Александ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аров Дмитр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шкина Екате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рдена Ленин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ыли удостоены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Толя Шумов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Витя Коробков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Володя Казначеев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5"/>
          <a:stretch/>
        </p:blipFill>
        <p:spPr>
          <a:xfrm>
            <a:off x="5364000" y="549360"/>
            <a:ext cx="28353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00720" y="692280"/>
            <a:ext cx="446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рдена Красного Знамени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Володя Дубинин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Костя Кравчук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3989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36831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рдена Отечественной вой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-й степени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Валерий Волк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Саша Ковалё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4211640" y="981000"/>
            <a:ext cx="4576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43280" y="907560"/>
            <a:ext cx="40435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рдена Красной звезд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—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Володя Саморух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Шура Ефрем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Ваня Андриан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Витя Коваленк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Лёня Анкинович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7"/>
          <a:stretch/>
        </p:blipFill>
        <p:spPr>
          <a:xfrm>
            <a:off x="395280" y="1700280"/>
            <a:ext cx="4392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0" y="549000"/>
            <a:ext cx="4114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веро пионеров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оев были удостоены звания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Героя Советского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Сою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Лёня Голик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Марат Каз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Валя Коти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Зина Портно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7"/>
          <a:stretch/>
        </p:blipFill>
        <p:spPr>
          <a:xfrm>
            <a:off x="611280" y="692280"/>
            <a:ext cx="3417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ногие юные участники войны погибли в боях или были казнены немцам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402912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41148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аня Савичева</a:t>
            </a:r>
            <a:br>
              <a:rPr sz="4400"/>
            </a:br>
            <a:br>
              <a:rPr sz="44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Родилась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25 января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930 года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Ленинграде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Блокаду пережили только двое из четырех Таниных братьев и сестёр — сестра Нина и брат Михаил. </a:t>
            </a: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Сама Таня Савичева была эвакуирована из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Ленинграда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летом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42 года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Шатковский район Горьковской области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(ныне Нижегородской). </a:t>
            </a: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Скончалась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 июля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44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от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туберкулёза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кишечника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1"/>
          <a:stretch/>
        </p:blipFill>
        <p:spPr>
          <a:xfrm>
            <a:off x="4859280" y="260280"/>
            <a:ext cx="397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икто не забыт, ничто не забыт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79276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42920" y="21384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«Пионер, прячущий знамя» 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informatics.ru/mshp/works/heroies_gpw/pic/krav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 Брестская крепость -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gallart.ru/images/expozition/image_3579.jp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Портрет Володи Дубинина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yahooeu.ru/uploads/posts/09/06/02/27/yahooeu_ru_8.jp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. Портрет Вали Котика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dic.academic.ru/pictures/wiki/files/86/ValaKotyk.jp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. Портрет Марата Казея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http://kp.by/f/4/image/33/18/111833.jp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. Портрет Лёни Голикова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http://img0.liveinternet.ru/images/attach/c/2/64/166/64166152_1284806405_6032_msgmid.jp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156960" y="2286000"/>
            <a:ext cx="26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. Портрет Вити Коробкова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214200" y="2571840"/>
            <a:ext cx="864396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http://www.krymology.info/images/2/23/%D0%92%D0%B8%D1%82%D1%8F_%D0%9A%D0%BE%D1%80%D0%BE%D0%B1%D0%BA%D0%BE%D0%B2_%D1%81%D1%82%D0%B5%D0%BD%D0%B4.jp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26440" y="3071880"/>
            <a:ext cx="28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. Портрет Зины Портновой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285840" y="3357720"/>
            <a:ext cx="8715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http://biograf-book.narod.ru/personalii/15/portreti/portnova.jp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334800" y="3714840"/>
            <a:ext cx="18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9. Орден Ленина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357120" y="4000680"/>
            <a:ext cx="8286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http://upload.wikimedia.org/wikipedia/commons/thumb/a/ac/Order_of_Lenin.jpg/230px-Order_of_Lenin.jp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297720" y="464328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0. Орден Красного Знамени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3000240" y="4643280"/>
            <a:ext cx="5786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http://young.rzd.ru/dbmm/images/41/4080/2233837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Прямоугольник 11"/>
          <p:cNvSpPr/>
          <p:nvPr/>
        </p:nvSpPr>
        <p:spPr>
          <a:xfrm>
            <a:off x="284040" y="5000760"/>
            <a:ext cx="32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1. Орден Отечественной войны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Прямоугольник 12"/>
          <p:cNvSpPr/>
          <p:nvPr/>
        </p:nvSpPr>
        <p:spPr>
          <a:xfrm>
            <a:off x="3286080" y="50007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stihi.ru/pics/2010/12/23/7204.jp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317520" y="535788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2. Орден Красной звезды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2786040" y="5357880"/>
            <a:ext cx="61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chitalnya.ru/upload/704/33970403764396.jp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298800" y="5715000"/>
            <a:ext cx="33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3. Орден Герой Советского Союза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16"/>
          <p:cNvSpPr/>
          <p:nvPr/>
        </p:nvSpPr>
        <p:spPr>
          <a:xfrm>
            <a:off x="3500280" y="5715000"/>
            <a:ext cx="56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bibliotekar.ru/rusOrden/42.files/image001.jp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17"/>
          <p:cNvSpPr/>
          <p:nvPr/>
        </p:nvSpPr>
        <p:spPr>
          <a:xfrm>
            <a:off x="357120" y="6000840"/>
            <a:ext cx="835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4. Памятник В. Коробкову -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videomax.ru/forum/uploads/20060816_110835_065-P1250005-W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22 июня 1941 г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естская креп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11280" y="2333520"/>
            <a:ext cx="82087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0004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5.  Портрет Тани Савичевой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571680" y="500040"/>
            <a:ext cx="82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cubadebate.cu/wp-content/uploads/2010/09/tanya_diary-580x434.jp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571680" y="8571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6. Странички дневников Тани Савичев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642960" y="114300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s59.radikal.ru/i164/0809/17/d4b1aa93eeef.jp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6"/>
          <p:cNvSpPr/>
          <p:nvPr/>
        </p:nvSpPr>
        <p:spPr>
          <a:xfrm>
            <a:off x="601560" y="1500120"/>
            <a:ext cx="187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. Вечный огонь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42960" y="1785960"/>
            <a:ext cx="80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komanda48.ru/up/image/foto%20prazdniki/Den%20pamuti%20i%20skorbi/pob1.jp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лодя Дубин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одя Дубинин был одним из членов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партизанского отряд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воевавшего в каменоломнях вблизи Керчи. Оккупанты захватчики вели борьбу с отрядом каменоломен и замуровывали выходы из неё. Поскольку Володя был самым маленьким, то ему удавалось выбираться на поверхность по очень узким лазам не замеченным враг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же после освобождения Керчи Володя Дубинин вызвался помогать сапёрам при разминировании подходов к каменоломням. От взрыва мины погибли сапёр и помогавший ему Володя Дубин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ный разведчик Володя Дубинин был посмертно награждён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орденом Красного Знамен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5508720" y="765000"/>
            <a:ext cx="32288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87640" y="4759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аля Кот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0720" y="1916280"/>
            <a:ext cx="418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 время 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Великой Отечественной вой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нимал активное участие в партизанском движении на 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Украи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Сначала был связным, затем участвовал в боях, был дважды ранен, погиб в бою за город 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Изясл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Хмельницкой обла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награждён 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орденом Отечественной войны 1-й степен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медаль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58 го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але посмертно присвоено звание Героя Советского Союз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7"/>
          <a:stretch/>
        </p:blipFill>
        <p:spPr>
          <a:xfrm>
            <a:off x="250920" y="620640"/>
            <a:ext cx="39020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арат Каз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рат был разведчиком штаба партизанской бригады им. К. К.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Рокоссовско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Кроме разведок, участвовал в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ейда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диверсия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смелость и отвагу в боях награждён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орденом Отечественной войны 1-й степен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медалями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За отваг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(раненый, поднял партизан в атаку) и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За боевые заслуг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вращаясь из разведки и окружённый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немц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Марат Казей подорвал себя и врагов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гранат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Героя Советского Сою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своено в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196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году, через 21 год после гибе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1"/>
          <a:stretch/>
        </p:blipFill>
        <p:spPr>
          <a:xfrm>
            <a:off x="4788000" y="476280"/>
            <a:ext cx="38685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ёня Голи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игадный разведчик 67 отряда четвёртой ленинградской партизанской бригады, действовавшей на территории Новгородской и Псковской областей. Участвовал в 27 боевых операц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го им уничтожено: 78 немцев, два железнодорожных и 12 шоссейных мостов, два продовольственно-фуражных склада и 10 автомашин с боеприпас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провождал обоз с продовольствием (250 подвод) в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блокадны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Ленингра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доблесть и отвагу награждён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орденом Лени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орденом Боевого Красного Знамен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медалью «За отвагу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6"/>
          <a:stretch/>
        </p:blipFill>
        <p:spPr>
          <a:xfrm>
            <a:off x="250920" y="692280"/>
            <a:ext cx="42084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итя Короб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4572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Витю Коробкова поддерживалась связь между членами партизанских групп, скрывавшихся в старокрымском лесу. Он собирал сведения о враге, принимал участие в печати и распространении листовок. Позже стал разведчиком 3-ей бригады Восточного объединения партизан Кры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6 февраля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194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года отец и сын Коробковы пришли в Феодосию с очередным заданием, но через 2 дня были арестованы гестаповцами. Более двух недель их допрашивали и пытали в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гестап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отом расстреляли — сначала отца, а 9 марта — и его сына. За пять дней до казни Вите Коробкову исполнилось пятнадцать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казом Президиума Верховного Совета СССР Витя Коробков посмертно был награждён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медалью «За отвагу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4857840" y="500040"/>
            <a:ext cx="4113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57800" y="0"/>
            <a:ext cx="41148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ина Портн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4520" y="713880"/>
            <a:ext cx="4786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ачале июня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1941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ехала на школьные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каникул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деревню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Зу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Витебской обла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42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лен Обольской подпольной организации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Юные мстител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ая в столовой курсов переподготовки немецких офицеров по указанию подполья отравила пищу. Во время разбирательств, желая доказать немцам свою непричастность, съела отравленный суп. Чудом осталась жи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августа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943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разведч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артизанского отряда им. К. Е. Ворошило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екабре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1943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возвращаясь с задания по выяснению причин провала организации «Юные мстители», схвачена в деревне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Мостищ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одном из допросов в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гестап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еревни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Горя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схватив со стола пистолет следователя, застрелила его и ещё двух гитлеровцев, пыталась бежать, была схвачена. Зверски замучена и расстреляна в тюрьме города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Витебс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4"/>
          <a:stretch/>
        </p:blipFill>
        <p:spPr>
          <a:xfrm>
            <a:off x="214200" y="642960"/>
            <a:ext cx="39592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 боевые заслуги десятки тысяч детей и пионеров были награждены </a:t>
            </a:r>
            <a:br>
              <a:rPr sz="4000"/>
            </a:br>
            <a:r>
              <a:rPr b="0" lang="ru-RU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рденам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ru-RU" sz="4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едалям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16:00Z</dcterms:created>
  <dc:creator>SamLab.ws</dc:creator>
  <dc:description/>
  <dc:language>en-US</dc:language>
  <cp:lastModifiedBy>Admin</cp:lastModifiedBy>
  <dcterms:modified xsi:type="dcterms:W3CDTF">2011-04-04T15:42:17Z</dcterms:modified>
  <cp:revision>14</cp:revision>
  <dc:subject/>
  <dc:title>Слайд 1</dc:title>
</cp:coreProperties>
</file>